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54D23-1F70-41EC-B51B-4221DD97B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2"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3"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FEA83-8975-4405-897D-80A30150D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6"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7"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8"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03D16-ED75-461A-A361-0D24398A8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60"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1"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2"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3"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4"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5"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12EB1-CD0F-4A7F-BA6E-66A05B18B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D15509-D362-4445-BAC4-7EDCDC23CC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9"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4E6FFD-790F-4898-B530-E9BEFA305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6E1DA-4693-43C6-9837-EBC70D4E2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4"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3DBC5-930F-4239-85BE-B34D7F159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6C57A1-06D5-4E4F-84EF-E1CCF0A67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2A291-9443-46CE-BD7D-E153FC0CF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9"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0"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39FF4-BB84-482C-83F0-10C7AB5AA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1"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A7601-6C1F-417E-AEBE-68B964879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4"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FD15B-B2E3-416F-9ED7-FABE64F78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6"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7"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8"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F4D98-B7E8-4A06-973C-3213FC09F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0"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1"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191A7B-A1AF-43E9-92C0-331D5CF66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5"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6"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50C3DE-C981-4947-BD74-7F2D073E10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8"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9"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0"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1"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2"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3"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F59F5B-37B6-4B98-91D0-D56BCCC5F8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3"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A2598-20C1-4572-8C39-0127DF554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5"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6"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33DDB-40EE-4C3A-A90A-32C51E9AC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44E13-9AD0-4A40-BD87-CCD8F4A12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671FE-9457-4BD1-B417-E674E1366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0"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1"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2"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210FD-B9B3-4BA5-B3DD-96C6D23B3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4"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5"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6"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A35EB-F521-4A18-9749-6AB3C96B8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9"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0"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039EB-140E-488D-BE52-9D33DD125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8C258-A7F9-4B3D-8327-6261419907F6}"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
          <p:cNvGrpSpPr/>
          <p:nvPr/>
        </p:nvGrpSpPr>
        <p:grpSpPr>
          <a:xfrm>
            <a:off x="422280" y="1681200"/>
            <a:ext cx="295200" cy="4910040"/>
            <a:chOff x="422280" y="1681200"/>
            <a:chExt cx="295200" cy="4910040"/>
          </a:xfrm>
        </p:grpSpPr>
        <p:sp>
          <p:nvSpPr>
            <p:cNvPr id="16" name=""/>
            <p:cNvSpPr/>
            <p:nvPr/>
          </p:nvSpPr>
          <p:spPr>
            <a:xfrm>
              <a:off x="422280" y="16812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 name=""/>
          <p:cNvGrpSpPr/>
          <p:nvPr/>
        </p:nvGrpSpPr>
        <p:grpSpPr>
          <a:xfrm>
            <a:off x="484200" y="1660680"/>
            <a:ext cx="9056520" cy="274320"/>
            <a:chOff x="484200" y="1660680"/>
            <a:chExt cx="9056520" cy="274320"/>
          </a:xfrm>
        </p:grpSpPr>
        <p:sp>
          <p:nvSpPr>
            <p:cNvPr id="19" name=""/>
            <p:cNvSpPr/>
            <p:nvPr/>
          </p:nvSpPr>
          <p:spPr>
            <a:xfrm>
              <a:off x="9236160" y="166068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484200" y="17240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 name=""/>
          <p:cNvGrpSpPr/>
          <p:nvPr/>
        </p:nvGrpSpPr>
        <p:grpSpPr>
          <a:xfrm>
            <a:off x="150840" y="0"/>
            <a:ext cx="849240" cy="6858000"/>
            <a:chOff x="150840" y="0"/>
            <a:chExt cx="849240" cy="6858000"/>
          </a:xfrm>
        </p:grpSpPr>
        <p:sp>
          <p:nvSpPr>
            <p:cNvPr id="2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6" name=""/>
          <p:cNvGrpSpPr/>
          <p:nvPr/>
        </p:nvGrpSpPr>
        <p:grpSpPr>
          <a:xfrm>
            <a:off x="0" y="0"/>
            <a:ext cx="9144000" cy="6858000"/>
            <a:chOff x="0" y="0"/>
            <a:chExt cx="9144000" cy="6858000"/>
          </a:xfrm>
        </p:grpSpPr>
        <p:sp>
          <p:nvSpPr>
            <p:cNvPr id="67"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70"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03373-9D0A-473C-8B6B-7A6EAFFD6056}"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3" name=""/>
          <p:cNvGrpSpPr/>
          <p:nvPr/>
        </p:nvGrpSpPr>
        <p:grpSpPr>
          <a:xfrm>
            <a:off x="151920" y="313920"/>
            <a:ext cx="848160" cy="6543720"/>
            <a:chOff x="151920" y="313920"/>
            <a:chExt cx="848160" cy="6543720"/>
          </a:xfrm>
        </p:grpSpPr>
        <p:sp>
          <p:nvSpPr>
            <p:cNvPr id="74"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 name=""/>
          <p:cNvGrpSpPr/>
          <p:nvPr/>
        </p:nvGrpSpPr>
        <p:grpSpPr>
          <a:xfrm>
            <a:off x="422280" y="2697120"/>
            <a:ext cx="295200" cy="4160880"/>
            <a:chOff x="422280" y="2697120"/>
            <a:chExt cx="295200" cy="4160880"/>
          </a:xfrm>
        </p:grpSpPr>
        <p:sp>
          <p:nvSpPr>
            <p:cNvPr id="84" name=""/>
            <p:cNvSpPr/>
            <p:nvPr/>
          </p:nvSpPr>
          <p:spPr>
            <a:xfrm>
              <a:off x="42228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 name=""/>
          <p:cNvGrpSpPr/>
          <p:nvPr/>
        </p:nvGrpSpPr>
        <p:grpSpPr>
          <a:xfrm>
            <a:off x="484200" y="2697120"/>
            <a:ext cx="9056520" cy="274320"/>
            <a:chOff x="484200" y="2697120"/>
            <a:chExt cx="9056520" cy="274320"/>
          </a:xfrm>
        </p:grpSpPr>
        <p:sp>
          <p:nvSpPr>
            <p:cNvPr id="87" name=""/>
            <p:cNvSpPr/>
            <p:nvPr/>
          </p:nvSpPr>
          <p:spPr>
            <a:xfrm>
              <a:off x="9236160" y="269712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484200" y="27604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 name=""/>
          <p:cNvGrpSpPr/>
          <p:nvPr/>
        </p:nvGrpSpPr>
        <p:grpSpPr>
          <a:xfrm>
            <a:off x="150840" y="0"/>
            <a:ext cx="849240" cy="6858000"/>
            <a:chOff x="150840" y="0"/>
            <a:chExt cx="849240" cy="6858000"/>
          </a:xfrm>
        </p:grpSpPr>
        <p:sp>
          <p:nvSpPr>
            <p:cNvPr id="9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拯救情绪  放飞心灵</a:t>
            </a:r>
            <a:br>
              <a:rPr sz="4400"/>
            </a:br>
            <a:r>
              <a:rPr b="0" lang="zh-CN" sz="4400" spc="-1" strike="noStrike">
                <a:solidFill>
                  <a:srgbClr val="ffffff"/>
                </a:solidFill>
                <a:latin typeface="隶书"/>
                <a:ea typeface="隶书"/>
              </a:rPr>
              <a:t>     ——大学生心理健康讲座</a:t>
            </a:r>
            <a:endParaRPr b="0" lang="en-US" sz="4400" spc="-1" strike="noStrike">
              <a:solidFill>
                <a:srgbClr val="ccffff"/>
              </a:solidFill>
              <a:latin typeface="Impact"/>
            </a:endParaRPr>
          </a:p>
        </p:txBody>
      </p:sp>
      <p:sp>
        <p:nvSpPr>
          <p:cNvPr id="135"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                </a:t>
            </a:r>
            <a:r>
              <a:rPr b="0" lang="zh-CN" sz="2800" spc="-1" strike="noStrike">
                <a:solidFill>
                  <a:srgbClr val="ffffff"/>
                </a:solidFill>
                <a:latin typeface="Impact"/>
                <a:ea typeface="隶书"/>
              </a:rPr>
              <a:t>杨凤池</a:t>
            </a:r>
            <a:r>
              <a:rPr b="0" lang="zh-CN" sz="2800" spc="-1" strike="noStrike">
                <a:solidFill>
                  <a:srgbClr val="ffffff"/>
                </a:solidFill>
                <a:latin typeface="Impact"/>
                <a:ea typeface="黑体"/>
              </a:rPr>
              <a:t>          </a:t>
            </a: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首都医科大学心理学与行为科学教研室</a:t>
            </a:r>
            <a:endParaRPr b="0" lang="en-US" sz="2800" spc="-1" strike="noStrike">
              <a:solidFill>
                <a:srgbClr val="ffffff"/>
              </a:solidFill>
              <a:latin typeface="Impact"/>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pic>
        <p:nvPicPr>
          <p:cNvPr id="136" name="" descr=""/>
          <p:cNvPicPr/>
          <p:nvPr/>
        </p:nvPicPr>
        <p:blipFill>
          <a:blip r:embed="rId1"/>
          <a:stretch/>
        </p:blipFill>
        <p:spPr>
          <a:xfrm>
            <a:off x="5181480" y="2743200"/>
            <a:ext cx="3810240" cy="271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过于追求完美</a:t>
            </a:r>
            <a:endParaRPr b="0" lang="en-US" sz="4400" spc="-1" strike="noStrike">
              <a:solidFill>
                <a:srgbClr val="ccffff"/>
              </a:solidFill>
              <a:latin typeface="Impact"/>
            </a:endParaRPr>
          </a:p>
        </p:txBody>
      </p:sp>
      <p:sp>
        <p:nvSpPr>
          <p:cNvPr id="15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几乎每个人都有自己想象中完美的生活。但是，很少有人感到事业与家庭都合乎他们想象的标准。例如有一位男士说，他的家族没有人离过婚，在他看来婚姻是一生一世的事。因此，当他和前妻结婚五年、儿子三岁离婚时，他整个人垮掉了，觉得自己是个窝囊废。他的情绪糟糕至此，原因在于他无法摆脱“完美”家庭的想象。</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与别人比较</a:t>
            </a:r>
            <a:endParaRPr b="0" lang="en-US" sz="4400" spc="-1" strike="noStrike">
              <a:solidFill>
                <a:srgbClr val="ccffff"/>
              </a:solidFill>
              <a:latin typeface="Impact"/>
            </a:endParaRPr>
          </a:p>
        </p:txBody>
      </p:sp>
      <p:sp>
        <p:nvSpPr>
          <p:cNvPr id="15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多数人都拿自己与我们认为人生顺利的人比较，这些人可能是亲友、也可能是我们认识得很浅的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然而，我们忽略了一个重要的问题：每一个人都有自己独特的经历，每一个顺利人生的背后都有一个艰辛的故事。如果我们不知道，仅仅是我们对这个人生还不了解而已。</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隶书"/>
              </a:rPr>
              <a:t>过分注意缺憾</a:t>
            </a:r>
            <a:endParaRPr b="0" lang="en-US" sz="4400" spc="-1" strike="noStrike">
              <a:solidFill>
                <a:srgbClr val="ccffff"/>
              </a:solidFill>
              <a:latin typeface="Impact"/>
            </a:endParaRPr>
          </a:p>
        </p:txBody>
      </p:sp>
      <p:sp>
        <p:nvSpPr>
          <p:cNvPr id="15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隶书"/>
              </a:rPr>
              <a:t>破坏快乐的有效方法莫过于对任何事物都只注意瑕疵，例如抬头注视天花板时，只盯着缺了块板的地方，心里总是不快。一旦你找出自己缺了那块天花板，就要探讨：若重新补上这块天花板是否真的可以使你快乐。</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宋体"/>
                <a:ea typeface="隶书"/>
              </a:rPr>
              <a:t>结论</a:t>
            </a:r>
            <a:endParaRPr b="0" lang="en-US" sz="4400" spc="-1" strike="noStrike">
              <a:solidFill>
                <a:srgbClr val="ccffff"/>
              </a:solidFill>
              <a:latin typeface="Impact"/>
            </a:endParaRPr>
          </a:p>
        </p:txBody>
      </p:sp>
      <p:sp>
        <p:nvSpPr>
          <p:cNvPr id="16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人的一生遭遇和他会多快乐并无太大关联，我们都认识一些人，生活颇为顺利，但从根本上说不快乐；我们也知道有些人吃过不少苦头，却能乐天知命处世。</a:t>
            </a: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感激</a:t>
            </a:r>
            <a:endParaRPr b="0" lang="en-US" sz="4400" spc="-1" strike="noStrike">
              <a:solidFill>
                <a:srgbClr val="ccffff"/>
              </a:solidFill>
              <a:latin typeface="Impact"/>
            </a:endParaRPr>
          </a:p>
        </p:txBody>
      </p:sp>
      <p:sp>
        <p:nvSpPr>
          <p:cNvPr id="16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快乐的人都存有</a:t>
            </a:r>
            <a:r>
              <a:rPr b="1" lang="zh-CN" sz="3200" spc="-1" strike="noStrike">
                <a:solidFill>
                  <a:srgbClr val="ffffff"/>
                </a:solidFill>
                <a:latin typeface="宋体"/>
                <a:ea typeface="隶书"/>
              </a:rPr>
              <a:t>感激之心，无感激之心的人不会</a:t>
            </a:r>
            <a:r>
              <a:rPr b="1" lang="zh-CN" sz="3200" spc="-1" strike="noStrike">
                <a:solidFill>
                  <a:srgbClr val="ffffff"/>
                </a:solidFill>
                <a:latin typeface="Impact"/>
                <a:ea typeface="隶书"/>
              </a:rPr>
              <a:t>快乐。我们总以为人是因为不快乐才抱怨，其实抱怨让人不快乐的说法更有道理。</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行动</a:t>
            </a:r>
            <a:endParaRPr b="0" lang="en-US" sz="4400" spc="-1" strike="noStrike">
              <a:solidFill>
                <a:srgbClr val="ccffff"/>
              </a:solidFill>
              <a:latin typeface="Impact"/>
            </a:endParaRPr>
          </a:p>
        </p:txBody>
      </p:sp>
      <p:sp>
        <p:nvSpPr>
          <p:cNvPr id="16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要知道快乐是另一件事情的副产品。最明显的快乐源泉是有明确生活目标的活动，你越是投入你所喜爱的活动，就越可体验到更多的快乐。</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活就象是玩扑克，发到的那手牌是定了的，但你的打法是属于你的自由意志的。”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尼赫鲁</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播下一个行动，你将收获一种习惯；播下一种习惯，你将收获一种性格；播下一种性格，你将收获一种命运。”       </a:t>
            </a: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拿破仑</a:t>
            </a: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生动地把自己想象成失败者，就会使你不能取胜；生动地把自己想象成胜利者，将会带来无法估量的成功。伟大的人生以你想象中的图画——你希望取得什么成就，作一个什么样的人——作为开端。”</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                                  </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哈利</a:t>
            </a: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爱墨生</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弱者等待时机，强者创造时机。”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居里夫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3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焦虑——紧张</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续或发作性地出现焦虑、紧张、不安、烦躁，经常提心吊胆、对未来有不祥的预感，高度的警觉状态、容易激动。 </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抑郁——郁闷</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久的情绪低落、忧郁。对外界的人和事兴趣降低；悲观、失望，厌世而不能自拔，；注意力难以集中，易疲劳；食欲低下；自我评价降低</a:t>
            </a:r>
            <a:r>
              <a:rPr b="0" lang="zh-CN" sz="2800" spc="-1" strike="noStrike">
                <a:solidFill>
                  <a:srgbClr val="ffffff"/>
                </a:solidFill>
                <a:latin typeface="Times New Roman"/>
              </a:rPr>
              <a:t>。</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命的意义既不能模仿也不能引进，它只能由每个人在各自不同的存在环境中寻找和发现。人类的目标不是寻求心理或灵魂的安宁，而是在现实到理想的健康奋斗中体验生命的意义。生命的意义来自于个人在与责任相连的自由中运用有意识和无意识的人类精神力量。”</a:t>
            </a:r>
            <a:br>
              <a:rPr sz="3200"/>
            </a:br>
            <a:r>
              <a:rPr b="1" lang="zh-CN" sz="3200" spc="-1" strike="noStrike">
                <a:solidFill>
                  <a:srgbClr val="ffffff"/>
                </a:solidFill>
                <a:latin typeface="宋体"/>
                <a:ea typeface="隶书"/>
              </a:rPr>
              <a:t>                                               ——维克多</a:t>
            </a: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弗兰克尔</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4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恐惧——害怕</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当置身于特定处境时，出现强烈恐惧或紧张不安的内心体验。</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强迫——刻板</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对某些观念和行为明知不合理、不必要、但自己无法控制。如反复重复某些动作</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如洗手</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 </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情绪调节与成功</a:t>
            </a:r>
            <a:br>
              <a:rPr sz="4400"/>
            </a:br>
            <a:endParaRPr b="0" lang="en-US" sz="4400" spc="-1" strike="noStrike">
              <a:solidFill>
                <a:srgbClr val="ccffff"/>
              </a:solidFill>
              <a:latin typeface="Impact"/>
            </a:endParaRPr>
          </a:p>
        </p:txBody>
      </p:sp>
      <p:sp>
        <p:nvSpPr>
          <p:cNvPr id="14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认识现实及自我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克服非理性思维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自我激励与强化</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挖掘自我的潜能</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采取适宜的行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ffffff"/>
                </a:solidFill>
                <a:latin typeface="隶书"/>
                <a:ea typeface="隶书"/>
              </a:rPr>
              <a:t>健康的心态</a:t>
            </a:r>
            <a:endParaRPr b="0" lang="en-US" sz="4400" spc="-1" strike="noStrike">
              <a:solidFill>
                <a:srgbClr val="ccffff"/>
              </a:solidFill>
              <a:latin typeface="Impact"/>
            </a:endParaRPr>
          </a:p>
        </p:txBody>
      </p:sp>
      <p:sp>
        <p:nvSpPr>
          <p:cNvPr id="14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内心安宁平和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生活的实在感</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具有无差别感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不急于追求结果</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心理健康标准</a:t>
            </a:r>
            <a:endParaRPr b="0" lang="en-US" sz="4400" spc="-1" strike="noStrike">
              <a:solidFill>
                <a:srgbClr val="ccffff"/>
              </a:solidFill>
              <a:latin typeface="Impact"/>
            </a:endParaRPr>
          </a:p>
        </p:txBody>
      </p:sp>
      <p:sp>
        <p:nvSpPr>
          <p:cNvPr id="14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思维符合现实；</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情绪愉快稳定；</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意志坚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人格健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人际关系协调。</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具有我国特色的心理健康口诀</a:t>
            </a:r>
            <a:endParaRPr b="0" lang="en-US" sz="4400" spc="-1" strike="noStrike">
              <a:solidFill>
                <a:srgbClr val="ccffff"/>
              </a:solidFill>
              <a:latin typeface="Impact"/>
            </a:endParaRPr>
          </a:p>
        </p:txBody>
      </p:sp>
      <p:sp>
        <p:nvSpPr>
          <p:cNvPr id="14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顺其自然、不问过去、为所当为</a:t>
            </a:r>
            <a:br>
              <a:rPr sz="2800"/>
            </a:b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无我之境、无极之心、</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事实唯真、行动唯真。</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3</a:t>
            </a:r>
            <a:r>
              <a:rPr b="0" lang="zh-CN" sz="2800" spc="-1" strike="noStrike">
                <a:solidFill>
                  <a:srgbClr val="ffffff"/>
                </a:solidFill>
                <a:latin typeface="隶书"/>
                <a:ea typeface="隶书"/>
              </a:rPr>
              <a:t>）宽心、忍性、乐观、</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下无不可了之事。</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4</a:t>
            </a:r>
            <a:r>
              <a:rPr b="0" lang="zh-CN" sz="2800" spc="-1" strike="noStrike">
                <a:solidFill>
                  <a:srgbClr val="ffffff"/>
                </a:solidFill>
                <a:latin typeface="隶书"/>
                <a:ea typeface="隶书"/>
              </a:rPr>
              <a:t>）人法地、地法天、</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法道、道法自然。</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ffffff"/>
                </a:solidFill>
                <a:latin typeface="Impact"/>
              </a:rPr>
              <a:t> </a:t>
            </a:r>
            <a:endParaRPr b="0" lang="en-US" sz="2800" spc="-1" strike="noStrike">
              <a:solidFill>
                <a:srgbClr val="ffffff"/>
              </a:solidFill>
              <a:latin typeface="Impac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之源</a:t>
            </a:r>
            <a:endParaRPr b="0" lang="en-US" sz="4400" spc="-1" strike="noStrike">
              <a:solidFill>
                <a:srgbClr val="ccffff"/>
              </a:solidFill>
              <a:latin typeface="Impact"/>
            </a:endParaRPr>
          </a:p>
        </p:txBody>
      </p:sp>
      <p:sp>
        <p:nvSpPr>
          <p:cNvPr id="15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ea typeface="隶书"/>
              </a:rPr>
              <a:t>很多人想都没想过：快乐是必须去求去找才会有的。我们都以为快乐只是一种感觉，来自碰巧发生在我们身上的好事，而那种好事会不会发生并不是我们所能主宰的。但真相正好相反：快乐主要是由我们支配的，我们应该主动争取，而非被动等待。</a:t>
            </a:r>
            <a:endParaRPr b="0" lang="en-US" sz="2800" spc="-1" strike="noStrike">
              <a:solidFill>
                <a:srgbClr val="ffffff"/>
              </a:solidFill>
              <a:latin typeface="Impact"/>
            </a:endParaRPr>
          </a:p>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人生需要克服三个障碍：</a:t>
            </a:r>
            <a:endParaRPr b="0" lang="en-US" sz="4400" spc="-1" strike="noStrike">
              <a:solidFill>
                <a:srgbClr val="ccffff"/>
              </a:solidFill>
              <a:latin typeface="Impact"/>
            </a:endParaRPr>
          </a:p>
        </p:txBody>
      </p:sp>
      <p:sp>
        <p:nvSpPr>
          <p:cNvPr id="15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过于追求完美</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与别人比较</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过分注意缺憾</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08:28:52Z</dcterms:created>
  <dc:creator>yangfengchi</dc:creator>
  <dc:description/>
  <dc:language>en-US</dc:language>
  <cp:lastModifiedBy>yangfc</cp:lastModifiedBy>
  <dcterms:modified xsi:type="dcterms:W3CDTF">2005-10-12T15:56:59Z</dcterms:modified>
  <cp:revision>33</cp:revision>
  <dc:subject/>
  <dc:title>青少年心理健康讲座 </dc:title>
</cp:coreProperties>
</file>