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EE098E-AD05-469B-807D-32DBE3562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1DB2E-C783-49C7-9CDA-D71F90F01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87E73-372A-4D1B-B056-6E58A54F4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78E12-7A19-4628-B224-F57ADEAB31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231B19-00D2-4B1A-883E-E24C6B3EF0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B235FF-78B9-40D4-A891-D860A2A140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E7AE0-7F60-4C08-ADBB-DB7530EA0E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A2F7AA-96E0-4855-86A1-6F2FE9A9E4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D97EB4-43FA-4932-8225-98F3932AB2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367DBE-4273-42DB-86A3-D870E36E29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04F8A-7956-4FB9-814E-3E1D4A22B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CE4F6-D9D8-4810-A535-A12CAB605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292B5-BB8C-4555-8F1D-12F2C1D8D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0C5AD-3D85-4393-A4DF-330BE2BDF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C7BE46-E9BF-4EF2-8C29-73EA80E11F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2934A2-2AFB-4D7A-AFBA-15ABC4FB47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15CD0E-280C-449E-9F92-2F7F6D59C8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71CC5-17F1-4876-A207-324EF72CA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5FD14-14EB-45B5-A51B-0EBFE33F7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A989B-5F80-461B-8979-538BC14C6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34CE9-445C-4253-ABEE-D15E52AB3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CE0D6-6251-410C-B557-13C31B149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6BD43-C5A7-478B-9A0C-8E12E5C31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5C364-67B5-4378-9775-4313C00882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E37BC-A59B-492F-A38C-D988BB8A145D}" type="datetime">
              <a:rPr b="0" lang="zh-CN" sz="1400" spc="-1" strike="noStrike">
                <a:solidFill>
                  <a:srgbClr val="ffffff"/>
                </a:solidFill>
                <a:latin typeface="Times New Roman"/>
              </a:rPr>
              <a:t>26/7/31</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40E4F-BA66-4C26-B519-2AEFE80FF08A}"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9FCD7-5617-4DE4-ADD4-7BBE55258E64}" type="datetime">
              <a:rPr b="0" lang="zh-CN" sz="1400" spc="-1" strike="noStrike">
                <a:solidFill>
                  <a:srgbClr val="ffffff"/>
                </a:solidFill>
                <a:latin typeface="Times New Roman"/>
              </a:rPr>
              <a:t>26/7/31</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5F841-75E9-401D-BD95-65EB30FD5D02}"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3EE570EC-221D-43DF-95D4-4C4EE8591866}"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76680F37-1BA5-4D96-A288-A791640C4855}"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B8B7BDFD-A80C-4BE4-8BFC-0F19CDE046EA}"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E1535E29-2200-4A3F-83BD-2E97DE8513AB}"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7D8AD785-723C-4A96-8158-9F1C57061FF4}"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9FC0B437-AE4D-4D3B-917D-A420A5053E4D}" type="datetime1">
              <a:rPr lang="en-US"/>
              <a:t>07/31/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A010A7B1-B337-4D3A-97EA-19A21E060F3F}"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A6AC282A-4013-4AA2-8F9C-D179A3A5D822}"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94B455CD-E765-4E77-8957-FBB2DFBC79D0}" type="datetime1">
              <a:rPr lang="en-US"/>
              <a:t>07/31/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