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992B2-389C-472D-AA52-D330AB808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FA33D-C44E-486A-8DB6-12A302EEB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69B99-BEB9-4665-8FA2-ADEBAAE6C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FEBC4-4956-4ACE-8BD3-F7BC4C2B3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9AEB5-0DB0-4AA6-9456-AE3EE3653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75B42-277E-4983-B743-11BD7101B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E8D79-F762-4527-AD1A-65549084B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A6DA5-4B23-4403-98D3-10CC8D503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4F29B-3CE1-41E1-90BE-D97DDBF49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1BF75-6A18-4A41-9111-630C9FC97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14B53-323E-4DA4-9CD0-BAA1E1A97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AF71F-188C-4951-8416-BBC9B9BA0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4C468-0E51-4D16-9509-0402F536F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F46DA-247B-4ED3-8E6F-796FE4477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4F7C4-92CA-44CF-8D02-768989610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672B1-1716-4D0F-B74F-4D8EBBAC6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39E47-EEB7-404A-AD42-A25F81E31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62775-06D8-4180-85FF-020F58368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9905A-5A47-4C8E-B3F9-A5FAC77DB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33314-C4B7-47C9-8195-293BE8655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175AE-CAB6-4BE5-8140-9EF974B1B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2F13D-790B-4186-95BF-639FEECF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129E-4FD0-4896-BB18-8286485C0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1DE71-C48E-4A2F-A58F-43321A8EE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1A50-3C3D-434D-A4A5-0B3EECDC6EE5}"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D385-3F1B-4E08-9A1D-AA3C1711145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F125-2A30-4AB2-88A9-87E7A7FFD05E}" type="datetime">
              <a:rPr b="0" lang="zh-CN" sz="1400" spc="-1" strike="noStrike">
                <a:solidFill>
                  <a:srgbClr val="ffffff"/>
                </a:solidFill>
                <a:latin typeface="Times New Roman"/>
              </a:rPr>
              <a:t>26/7/30</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2509-0EC3-425F-BAA8-D50414C538E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A4887B91-7606-48A8-A344-CAAB619574BA}" type="datetime1">
              <a:rPr lang="en-US"/>
              <a:t>07/3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A525BC1-8E98-4014-AA89-D687604439A2}"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7A5C604-857C-4137-AB72-6F7DB9D45834}" type="datetime1">
              <a:rPr lang="en-US"/>
              <a:t>07/3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6EC7573-95C3-47B9-89BD-DFCB4E26868B}" type="datetime1">
              <a:rPr lang="en-US"/>
              <a:t>07/3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923D602-20FE-4539-8A88-F7969176E97D}" type="datetime1">
              <a:rPr lang="en-US"/>
              <a:t>07/3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AFAC0D1-31E0-4FF3-8A22-4AC46DB3BF11}" type="datetime1">
              <a:rPr lang="en-US"/>
              <a:t>07/3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0F1E9C4-B8D1-4CD5-82A7-448CB3587FD0}" type="datetime1">
              <a:rPr lang="en-US"/>
              <a:t>07/3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65FFD43-C90B-420F-A30E-E8C8E3D33E3B}" type="datetime1">
              <a:rPr lang="en-US"/>
              <a:t>07/3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48F3809-7984-451A-8E9F-D6691705454A}" type="datetime1">
              <a:rPr lang="en-US"/>
              <a:t>07/3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